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4395-58D3-4573-B385-38E535CC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ADCE-24ED-4ECD-98CB-FA00848E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624B-4C76-474A-9325-2999EA9CC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2E89-1C55-4C4F-93FA-790D60890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D34-5F5F-40FB-AE70-9C1A5D394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E2EF-CBA7-4A39-A13C-96039C306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ADA8-0D18-4968-B6E7-89DDE9B2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149C-811C-45D6-9CF2-486594758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CA1D-8CF6-4543-B738-C1387E64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A779-A933-43B9-A528-67D04576E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4BC2-86F4-436A-BCE1-20274A797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C1C8-43AF-4362-868C-CA08FA6D3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39320" y="1410840"/>
            <a:ext cx="696132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39320" y="1410840"/>
            <a:ext cx="696132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3997" r="0" b="0"/>
          <a:stretch/>
        </p:blipFill>
        <p:spPr>
          <a:xfrm>
            <a:off x="266760" y="0"/>
            <a:ext cx="1979640" cy="952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8ED0-C35F-443E-818C-CF6AB83CB060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4D361BE1-8F89-4E86-9AA5-AEDD481A964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9320" y="1410840"/>
            <a:ext cx="6961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912080" y="659304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5A5380F2-6E5B-4630-B10D-2B1C88C64FBB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2080" y="658296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3997" r="0" b="0"/>
          <a:stretch/>
        </p:blipFill>
        <p:spPr>
          <a:xfrm>
            <a:off x="266760" y="0"/>
            <a:ext cx="1979640" cy="952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C243-7E1A-48B0-9CE8-F0DE809A4B9D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FE0F7778-ECF0-497E-B281-978FBE32ED5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na.ingwe@gtz.d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25 Years of Improved Stove Activities in Keny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 the Household Energy Sympos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–17 Dec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a Ingwe , GTZ PSDA, Ken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Leader – St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anna.ingwe@gtz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254 733 712 9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224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34304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ank you for your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747960" cy="563904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Additional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Tonnes of wood saved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4000">
              <a:lnSpc>
                <a:spcPct val="120000"/>
              </a:lnSpc>
              <a:spcBef>
                <a:spcPts val="400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ousehold  has one stove which saves 1.095 t per year, (1.5 kg/p/d * 5 people = 7.5 kg/family/day *365 = 2730 * 40% = (at 40% savings compared to the traditional 3 stones cooking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4000">
              <a:lnSpc>
                <a:spcPct val="120000"/>
              </a:lnSpc>
              <a:spcBef>
                <a:spcPts val="400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0,000 HH * 1.095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8,050 t of wood saved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creage of wood saved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4000">
              <a:lnSpc>
                <a:spcPct val="120000"/>
              </a:lnSpc>
              <a:spcBef>
                <a:spcPts val="400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wood harvested  per hectare is 18.2 t/a ( MOE,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4000">
              <a:lnSpc>
                <a:spcPct val="120000"/>
              </a:lnSpc>
              <a:spcBef>
                <a:spcPts val="400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8,050 t wood saved per year/18.2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,431 ha of wood saved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spcBef>
                <a:spcPts val="400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Types of stoves (I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avings of Jiko Kisasa and Rocket St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2362320"/>
          <a:ext cx="7848720" cy="40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784872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4826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tove activities in Keny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341360"/>
            <a:ext cx="8591400" cy="5112000"/>
          </a:xfrm>
          <a:prstGeom prst="rightArrowCallout">
            <a:avLst>
              <a:gd name="adj1" fmla="val 23798"/>
              <a:gd name="adj2" fmla="val 19130"/>
              <a:gd name="adj3" fmla="val -15941"/>
              <a:gd name="adj4" fmla="val 86144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41360"/>
            <a:ext cx="520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men and Energy 1983–19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916280"/>
            <a:ext cx="7273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To promote better infrastructur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lf-sustaining dissemin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improved stoves in rural ar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mi-commerci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Whole country, 10% of HH, approx. 180,000 st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Ministry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Maendeleo ya Wanawake 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Later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No private sector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Stove activities in Keny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773360"/>
            <a:ext cx="8569080" cy="3705120"/>
          </a:xfrm>
          <a:prstGeom prst="rightArrowCallout">
            <a:avLst>
              <a:gd name="adj1" fmla="val 26567"/>
              <a:gd name="adj2" fmla="val 26778"/>
              <a:gd name="adj3" fmla="val -16752"/>
              <a:gd name="adj4" fmla="val 87181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844640"/>
            <a:ext cx="37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ition Peri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684036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No major funding for stove activities between 1996–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1994: 40,000 stoves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1999: 15,000 stoves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Technical &amp; financial problems, lack of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Stove activities in Keny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523880"/>
            <a:ext cx="8667720" cy="4784760"/>
          </a:xfrm>
          <a:prstGeom prst="rightArrowCallout">
            <a:avLst>
              <a:gd name="adj1" fmla="val 26188"/>
              <a:gd name="adj2" fmla="val 17755"/>
              <a:gd name="adj3" fmla="val -9703"/>
              <a:gd name="adj4" fmla="val 91278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62864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vate Sector Development in Agriculture 2006–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To provide households, businesses and social institutions with access to modern clean energy by provision of fuel efficient cooking stoves in a sustainable man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ully commerci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12 districts in 3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Phase I 2006–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Phase II 2009–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427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4160" y="1143000"/>
            <a:ext cx="4495320" cy="4514400"/>
            <a:chOff x="2324160" y="1143000"/>
            <a:chExt cx="4495320" cy="4514400"/>
          </a:xfrm>
        </p:grpSpPr>
        <p:sp>
          <p:nvSpPr>
            <p:cNvPr id="122" name="Puzzle3"/>
            <p:cNvSpPr/>
            <p:nvPr/>
          </p:nvSpPr>
          <p:spPr>
            <a:xfrm>
              <a:off x="4513320" y="1143000"/>
              <a:ext cx="1766880" cy="239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Puzzle2"/>
            <p:cNvSpPr/>
            <p:nvPr/>
          </p:nvSpPr>
          <p:spPr>
            <a:xfrm>
              <a:off x="3999240" y="2890800"/>
              <a:ext cx="2820240" cy="218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Puzzle4"/>
            <p:cNvSpPr/>
            <p:nvPr/>
          </p:nvSpPr>
          <p:spPr>
            <a:xfrm>
              <a:off x="2907720" y="2863800"/>
              <a:ext cx="1700280" cy="2793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uzzle1"/>
            <p:cNvSpPr/>
            <p:nvPr/>
          </p:nvSpPr>
          <p:spPr>
            <a:xfrm>
              <a:off x="2324160" y="1868760"/>
              <a:ext cx="2855520" cy="166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08120" y="121140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Types of Sto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0400" y="22017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4680" y="28116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3800" y="19731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1700280"/>
            <a:ext cx="4392720" cy="4800600"/>
          </a:xfrm>
          <a:prstGeom prst="flowChartAlternateProcess">
            <a:avLst/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0800" y="1876320"/>
            <a:ext cx="278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men an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32080" y="24256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276640"/>
            <a:ext cx="43592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Jiko kisasa, fixed or 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Made of fired clay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ixed or mobil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Uses fire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No chimney but good combu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Less 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irewood saving potential of 30–4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Improved cleanness, working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Needs installation in the kit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700280"/>
            <a:ext cx="4419720" cy="4800600"/>
          </a:xfrm>
          <a:prstGeom prst="flowChartAlternateProcess">
            <a:avLst/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7480" y="23544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1949400"/>
            <a:ext cx="221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S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27480" y="26589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76640"/>
            <a:ext cx="4572000" cy="33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Rocket Stov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July 2006 adapted from 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Made of fired clay soil/fired clay bri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ixed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Uses fire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No chimney but good combu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Less 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irewood saving potential of 50–7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Improved cleanness, working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24280" y="6324120"/>
            <a:ext cx="2819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cket St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648240" cy="548640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4038480" cy="268452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457200" y="327672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iko Kisasa L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57200" y="6324480"/>
            <a:ext cx="2819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xed Jiko Kis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3317760" cy="248292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80880" y="12193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362320" y="1143000"/>
            <a:ext cx="4495320" cy="4514400"/>
            <a:chOff x="2362320" y="1143000"/>
            <a:chExt cx="4495320" cy="4514400"/>
          </a:xfrm>
        </p:grpSpPr>
        <p:sp>
          <p:nvSpPr>
            <p:cNvPr id="150" name="Puzzle3"/>
            <p:cNvSpPr/>
            <p:nvPr/>
          </p:nvSpPr>
          <p:spPr>
            <a:xfrm>
              <a:off x="4551480" y="1143000"/>
              <a:ext cx="1766880" cy="239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uzzle2"/>
            <p:cNvSpPr/>
            <p:nvPr/>
          </p:nvSpPr>
          <p:spPr>
            <a:xfrm>
              <a:off x="4037400" y="2890800"/>
              <a:ext cx="2820240" cy="218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uzzle4"/>
            <p:cNvSpPr/>
            <p:nvPr/>
          </p:nvSpPr>
          <p:spPr>
            <a:xfrm>
              <a:off x="2945880" y="2863800"/>
              <a:ext cx="1700280" cy="2793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uzzle1"/>
            <p:cNvSpPr/>
            <p:nvPr/>
          </p:nvSpPr>
          <p:spPr>
            <a:xfrm>
              <a:off x="2362320" y="1868760"/>
              <a:ext cx="2855520" cy="166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50920" y="2060640"/>
            <a:ext cx="4537080" cy="3733560"/>
          </a:xfrm>
          <a:custGeom>
            <a:avLst/>
            <a:gdLst>
              <a:gd name="textAreaLeft" fmla="*/ 0 w 4537080"/>
              <a:gd name="textAreaRight" fmla="*/ 4537440 w 453708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060640"/>
            <a:ext cx="5508720" cy="37335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87" y="0"/>
                </a:lnTo>
                <a:lnTo>
                  <a:pt x="21600" y="10800"/>
                </a:lnTo>
                <a:lnTo>
                  <a:pt x="17087" y="21600"/>
                </a:lnTo>
                <a:lnTo>
                  <a:pt x="0" y="21600"/>
                </a:lnTo>
                <a:lnTo>
                  <a:pt x="4513" y="10800"/>
                </a:lnTo>
                <a:close/>
              </a:path>
            </a:pathLst>
          </a:cu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7120" y="2136600"/>
            <a:ext cx="278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omen an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2209680"/>
            <a:ext cx="386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SDA</a:t>
            </a: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590920"/>
            <a:ext cx="428328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emi-commercial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Development of efficient techn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Reduction of indoor air pollution by 3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ooperation with other countr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&gt; 500,000 stoves disseminated (1989 –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Job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Production capacity of 35,000 stoves/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ree nurseries (Women grou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590920"/>
            <a:ext cx="396216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ully commercial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inanc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Reduction of IAP by up to 7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troduction of activities to other N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190,000 stoves disseminated (3 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Job creation (production, marketing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come generation (50 % HH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volvement of HIV/Aids vict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tove Association as lobby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57200" y="121932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Lessons Lear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362320" y="1143000"/>
            <a:ext cx="4495320" cy="4514400"/>
            <a:chOff x="2362320" y="1143000"/>
            <a:chExt cx="4495320" cy="4514400"/>
          </a:xfrm>
        </p:grpSpPr>
        <p:sp>
          <p:nvSpPr>
            <p:cNvPr id="163" name="Puzzle3"/>
            <p:cNvSpPr/>
            <p:nvPr/>
          </p:nvSpPr>
          <p:spPr>
            <a:xfrm>
              <a:off x="4551480" y="1143000"/>
              <a:ext cx="1766880" cy="239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uzzle2"/>
            <p:cNvSpPr/>
            <p:nvPr/>
          </p:nvSpPr>
          <p:spPr>
            <a:xfrm>
              <a:off x="4037400" y="2890800"/>
              <a:ext cx="2820240" cy="218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uzzle4"/>
            <p:cNvSpPr/>
            <p:nvPr/>
          </p:nvSpPr>
          <p:spPr>
            <a:xfrm>
              <a:off x="2945880" y="2863800"/>
              <a:ext cx="1700280" cy="2793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Puzzle1"/>
            <p:cNvSpPr/>
            <p:nvPr/>
          </p:nvSpPr>
          <p:spPr>
            <a:xfrm>
              <a:off x="2362320" y="1868760"/>
              <a:ext cx="2855520" cy="166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46280" y="166356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51520" y="22780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36920" y="235440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89600" y="24303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3400" y="334476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648320"/>
            <a:ext cx="3886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80120" y="311616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661000"/>
            <a:ext cx="4572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844640"/>
            <a:ext cx="4254480" cy="4464000"/>
          </a:xfrm>
          <a:custGeom>
            <a:avLst/>
            <a:gdLst>
              <a:gd name="textAreaLeft" fmla="*/ 207360 w 4254480"/>
              <a:gd name="textAreaRight" fmla="*/ 4047120 w 4254480"/>
              <a:gd name="textAreaTop" fmla="*/ 207360 h 4464000"/>
              <a:gd name="textAreaBottom" fmla="*/ 4256640 h 4464000"/>
            </a:gdLst>
            <a:ahLst/>
            <a:rect l="textAreaLeft" t="textAreaTop" r="textAreaRight" b="textAreaBottom"/>
            <a:pathLst>
              <a:path w="21600" h="22664">
                <a:moveTo>
                  <a:pt x="3600" y="0"/>
                </a:moveTo>
                <a:arcTo wR="3600" hR="3600" stAng="16200000" swAng="-5400000"/>
                <a:lnTo>
                  <a:pt x="0" y="19064"/>
                </a:lnTo>
                <a:arcTo wR="3600" hR="3600" stAng="10800000" swAng="-5400000"/>
                <a:lnTo>
                  <a:pt x="18000" y="22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206064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men an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492280"/>
            <a:ext cx="374508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More attention for marketing a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ubsidies as constraints for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development and sustain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come generation is motivation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ontinued stove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More careful selection of st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produ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Disability to take off after training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mall women potter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hoice of dissemination approach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1844640"/>
            <a:ext cx="4535280" cy="4464000"/>
          </a:xfrm>
          <a:prstGeom prst="roundRect">
            <a:avLst>
              <a:gd name="adj" fmla="val 16667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75200" y="273528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20606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S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2492280"/>
            <a:ext cx="417492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Benefited significantly from former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ommercial approach provides basi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sustainability of activ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come opportunities remain maj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Involvement of further stakeholders fo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broad mainstreaming of stove activities carries a great chance for sustain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Other priorities at househol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irewood shortage not seen as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Lack of infrastructure –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Way Forw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268280"/>
            <a:ext cx="8686800" cy="5208840"/>
          </a:xfrm>
          <a:prstGeom prst="rightArrow">
            <a:avLst>
              <a:gd name="adj1" fmla="val 61963"/>
              <a:gd name="adj2" fmla="val 36751"/>
            </a:avLst>
          </a:prstGeom>
          <a:solidFill>
            <a:srgbClr val="efe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vate Sector Development in Agriculture (Phase I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The project is in preparation for a second phase from 2009–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oncentration in the current focal areas to increas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Expansion to new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The project will increasingly work with local NGOs and Community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Organization to strengthen their capacity to continue stove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inside and outside the focal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8:51:54Z</dcterms:created>
  <dc:creator>Anna</dc:creator>
  <dc:description/>
  <dc:language>en-US</dc:language>
  <cp:lastModifiedBy>Jan-Hendrik Soehlemann</cp:lastModifiedBy>
  <dcterms:modified xsi:type="dcterms:W3CDTF">2009-01-08T09:00:59Z</dcterms:modified>
  <cp:revision>477</cp:revision>
  <dc:subject/>
  <dc:title>Slide 1</dc:title>
</cp:coreProperties>
</file>